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8B76-A3F3-4116-ACDF-6561290C8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1556-1240-442C-BE16-F429C0ADC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6CE1-81D9-4752-9010-1D1B2C76B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51BA-F1DF-4C06-8B02-5B1EE1D06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9129-1C42-4BB7-A506-BC3A86D13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BF3-490B-4BAE-9E43-F3C852497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B3E5-0F98-4613-8DAE-3E1CC4203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ED17-776A-43F6-91E4-1BA6C6203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8FC6-B983-4DBE-B6C7-1A0995D30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FD2B-E5F4-46D6-90E7-08A472DC7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EBD2-94C7-49CF-8A0D-1978F6F92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16D6-3D12-4EDA-8D05-3724C5183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9421920" y="6303960"/>
            <a:ext cx="493560" cy="598320"/>
          </a:xfrm>
          <a:prstGeom prst="rect">
            <a:avLst/>
          </a:prstGeom>
          <a:solidFill>
            <a:srgbClr val="67a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212760" y="-36360"/>
            <a:ext cx="10157040" cy="1009440"/>
          </a:xfrm>
          <a:prstGeom prst="rect">
            <a:avLst/>
          </a:prstGeom>
          <a:solidFill>
            <a:srgbClr val="f9c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-9360" y="6313320"/>
            <a:ext cx="9547200" cy="544680"/>
          </a:xfrm>
          <a:prstGeom prst="rect">
            <a:avLst/>
          </a:prstGeom>
          <a:solidFill>
            <a:srgbClr val="131313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8570880" y="4724280"/>
            <a:ext cx="1344600" cy="2436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84320" y="6446880"/>
            <a:ext cx="3462120" cy="447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964044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EBBD-0D11-482F-90A0-5C8E89D78124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4"/>
          <a:stretch/>
        </p:blipFill>
        <p:spPr>
          <a:xfrm>
            <a:off x="1465200" y="861840"/>
            <a:ext cx="8437680" cy="115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42000"/>
              </a:srgbClr>
            </a:outerShdw>
          </a:effectLst>
        </p:spPr>
      </p:pic>
      <p:pic>
        <p:nvPicPr>
          <p:cNvPr id="7" name="Picture 7" descr=""/>
          <p:cNvPicPr/>
          <p:nvPr/>
        </p:nvPicPr>
        <p:blipFill>
          <a:blip r:embed="rId5"/>
          <a:stretch/>
        </p:blipFill>
        <p:spPr>
          <a:xfrm>
            <a:off x="135000" y="303120"/>
            <a:ext cx="1616040" cy="992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-17640"/>
            <a:ext cx="9925200" cy="6473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-6689880" y="5072040"/>
            <a:ext cx="23788800" cy="2044800"/>
          </a:xfrm>
          <a:prstGeom prst="rect">
            <a:avLst/>
          </a:prstGeom>
          <a:solidFill>
            <a:srgbClr val="131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6375240" y="6357960"/>
            <a:ext cx="3462480" cy="4460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-9360" y="1044720"/>
            <a:ext cx="9924840" cy="2536560"/>
          </a:xfrm>
          <a:prstGeom prst="rect">
            <a:avLst/>
          </a:prstGeom>
          <a:solidFill>
            <a:srgbClr val="f9ca1a"/>
          </a:solidFill>
          <a:ln w="0">
            <a:noFill/>
          </a:ln>
          <a:effectLst>
            <a:outerShdw dist="76367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-531720" y="1646280"/>
            <a:ext cx="10969560" cy="475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414360" y="-88920"/>
            <a:ext cx="4064040" cy="249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1015920" y="3616200"/>
            <a:ext cx="1955880" cy="3544920"/>
          </a:xfrm>
          <a:prstGeom prst="rect">
            <a:avLst/>
          </a:prstGeom>
          <a:ln w="0">
            <a:noFill/>
          </a:ln>
          <a:effectLst>
            <a:outerShdw dist="76063" dir="21420944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51" name="Gruppierung 11"/>
          <p:cNvGrpSpPr/>
          <p:nvPr/>
        </p:nvGrpSpPr>
        <p:grpSpPr>
          <a:xfrm>
            <a:off x="4240800" y="514080"/>
            <a:ext cx="5259240" cy="1275840"/>
            <a:chOff x="4240800" y="514080"/>
            <a:chExt cx="5259240" cy="1275840"/>
          </a:xfrm>
        </p:grpSpPr>
        <p:sp>
          <p:nvSpPr>
            <p:cNvPr id="52" name="Rectangle 8"/>
            <p:cNvSpPr/>
            <p:nvPr/>
          </p:nvSpPr>
          <p:spPr>
            <a:xfrm rot="21322200">
              <a:off x="4266720" y="723240"/>
              <a:ext cx="5207040" cy="85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3" name="Bild 13" descr=""/>
            <p:cNvPicPr/>
            <p:nvPr/>
          </p:nvPicPr>
          <p:blipFill>
            <a:blip r:embed="rId7"/>
            <a:stretch/>
          </p:blipFill>
          <p:spPr>
            <a:xfrm>
              <a:off x="4451760" y="692280"/>
              <a:ext cx="4939560" cy="1017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 rot="21489000">
            <a:off x="793800" y="1920600"/>
            <a:ext cx="8213760" cy="2965320"/>
          </a:xfrm>
          <a:prstGeom prst="rect">
            <a:avLst/>
          </a:prstGeom>
          <a:ln w="0">
            <a:noFill/>
          </a:ln>
        </p:spPr>
      </p:pic>
      <p:sp>
        <p:nvSpPr>
          <p:cNvPr id="91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1C9-CE56-4187-8357-65AA806BA3A4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Rectangle 2"/>
          <p:cNvSpPr/>
          <p:nvPr/>
        </p:nvSpPr>
        <p:spPr>
          <a:xfrm rot="21492000">
            <a:off x="801360" y="2455560"/>
            <a:ext cx="8136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Lehreinheit 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7. und 8. Klasse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3648-A6F1-45FE-BFD5-06AC4472D698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 rot="21489000">
            <a:off x="794880" y="2107800"/>
            <a:ext cx="8213760" cy="2643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 rot="21492000">
            <a:off x="801360" y="2455560"/>
            <a:ext cx="8136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Lehreinheit 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Geschichte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B80-9DFD-41E6-B430-2C1D45370F7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31840" y="2143080"/>
            <a:ext cx="944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12e"/>
                </a:solidFill>
                <a:latin typeface="Arial"/>
                <a:ea typeface="Arial"/>
              </a:rPr>
              <a:t>1817 - 1820 Die Drais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 Fahrrad hat seinen Ursprung tatsächlich in Deutschland: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 Jahr 1817, als der badische Forstbeamte Karl von Drais eine Laufmaschine erfand, mit der er in einer Stunde 15 km zurücklegen konnte und damit schneller war als eine Postkutsch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ch seinem Erfinder wurden diese Laufmaschinen „Draisinen“ genannt. Es war einerseits praktisch, andererseits sehr schwierig zu balancieren und daher verantwortlich für viele Unfäll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ie Geschichte des Fahrrad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432480" y="500040"/>
            <a:ext cx="37148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49A-6652-48FD-9C46-EF1E3CE5C0EF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99880" y="2152800"/>
            <a:ext cx="85122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12e"/>
                </a:solidFill>
                <a:latin typeface="Arial"/>
                <a:ea typeface="Arial"/>
              </a:rPr>
              <a:t>1866 - 1870 Das Pedalvelozip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s zur Weiterentwicklung des Laufrades und seiner Erweiterung um Pedalen verging fast ein halbes Jahrhundert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dieser Zeit war das Rollschuhfahren sehr in Mode und verdrängte das Bedürfnis, sich auf dem wackeligen Laufrad fortzubeweg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 tatsächlich der eigentliche Erfinder des Pedalveloziped war, ist widersprüchlich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tsache ist, dass dieses neue Gefährt 1867 seinen Siegeszug durch die Welt antrat. Überall wurden Rennen gefahren, auch unter Frau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ie Geschichte des Fahrrad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432480" y="500040"/>
            <a:ext cx="37148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BF2-55A5-4D84-941C-C5D5DB19C7EE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299880" y="1982880"/>
            <a:ext cx="85122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12e"/>
                </a:solidFill>
                <a:latin typeface="Arial"/>
                <a:ea typeface="Arial"/>
              </a:rPr>
              <a:t>1870 - 1880 Das Hochra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 renn- und wettbesessenen Engländern war das Pedalveloziped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urz VELO) zu langsam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ch galt die Gleichung: pro Pedaltritt eine Radumdrehung, also je größer das Vorderrad, desto schneller die Fahrt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eitgemäße Hochräder hatten oft Raddurchmesser von 1,50 Meter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 erforderte viel Geschick beim auf- und absteigen und natürlich beim Fahren. Schlimme Stürze mit tragischen Verletzungen waren an der Tagesordnung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Aufgabe war, das Fahren sicherer zu mach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ie Geschichte des Fahrrad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32480" y="500040"/>
            <a:ext cx="37148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B076-3296-43DE-BE02-2A8A8E34956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347760" y="2322360"/>
            <a:ext cx="851364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12e"/>
                </a:solidFill>
                <a:latin typeface="Arial"/>
                <a:ea typeface="Arial"/>
              </a:rPr>
              <a:t>ab 1884 Das Niederra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Antwort kam aus England: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n Übersetzungsgetriebe auf ein kleineres Vorderrad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uftreifen, den es eigentlich schon gab, kam, neu erfunden vom Tierarzt John Boyd Dunlop, erst 1888 dazu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rher war das Fahrradfahren trotz Übersetzung immer noch eine anstrengende Angelegenheit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ie Geschichte des Fahrrad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432480" y="500040"/>
            <a:ext cx="371484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CBC-55D1-4074-97D0-B90E1B25D03F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570880" y="4724280"/>
            <a:ext cx="134460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35000" y="303120"/>
            <a:ext cx="1616040" cy="992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  <p:sp>
        <p:nvSpPr>
          <p:cNvPr id="149" name="Rectangle 4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as richtige Fahrrad allein hilft nicht....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228600" y="3048120"/>
            <a:ext cx="9524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 dieser Stelle bitte den Film „Risiko-Raus.wmv“ einbind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E5F0-5082-4A4F-BDF5-C65605A01C47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1"/>
          <p:cNvSpPr/>
          <p:nvPr/>
        </p:nvSpPr>
        <p:spPr>
          <a:xfrm rot="21489000">
            <a:off x="181080" y="1320840"/>
            <a:ext cx="9645480" cy="4732200"/>
          </a:xfrm>
          <a:prstGeom prst="rect">
            <a:avLst/>
          </a:prstGeom>
          <a:solidFill>
            <a:srgbClr val="67a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ufgabe für die nächste Stunde: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238400" y="144612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Bitte erstellt aus alten Zeitschriften eine Text-/Bildcollage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637080" y="3179880"/>
            <a:ext cx="6181560" cy="1311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4083120" y="3535200"/>
            <a:ext cx="6354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algröße der Collage ist das Format A3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8570880" y="4724280"/>
            <a:ext cx="1344600" cy="2436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628560" y="4518000"/>
            <a:ext cx="7758360" cy="1527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657360" y="4660920"/>
            <a:ext cx="74199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drei besten und originellsten Collagen werden abfotografiert, vom Lehrer im Internet bei www.2wheels-4fun.de eingestellt und nehmen damit am Gewinnspiel 2 teil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18960" y="2340000"/>
            <a:ext cx="5118120" cy="1312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1"/>
          <p:cNvSpPr/>
          <p:nvPr/>
        </p:nvSpPr>
        <p:spPr>
          <a:xfrm>
            <a:off x="309600" y="2571840"/>
            <a:ext cx="6356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a: „Wer Fahrrad fährt,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t gefährlich?“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3B4-BDC5-4514-98D5-28E525967441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4981680" y="384120"/>
            <a:ext cx="5146560" cy="2606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 rot="21492000">
            <a:off x="1827360" y="17280"/>
            <a:ext cx="81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können wir gewinnen,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n wir mitmach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62080" y="1928880"/>
            <a:ext cx="47289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winnspiel 1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bei www.2wheels-4fun.de gestellten Fragen müssen beantwortet werd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winnspiel 2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eiligung an der Unterrichtsaktio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 Lehrer stellt die Ergebnisse im Netz ei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456160" y="3517920"/>
            <a:ext cx="3321000" cy="8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2457360" y="4545000"/>
            <a:ext cx="612468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A70C-5EE9-4D1B-8BB0-AD609F8D5F6D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1"/>
          <p:cNvSpPr/>
          <p:nvPr/>
        </p:nvSpPr>
        <p:spPr>
          <a:xfrm rot="21492000">
            <a:off x="1623600" y="236160"/>
            <a:ext cx="8136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um sollen wir überhaupt mitmach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81040" y="1751040"/>
            <a:ext cx="87440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8480" indent="-5284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gleicht man die Zahlen von 2007 und 2008,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fällt auf, dass es bei allen Arten von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kehrsbeteiligungen weniger Unfälle und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unglückte gab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genommen die Fahrradfahrer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gab es 0,5 % mehr Verletzte und sogar 7,3 % mehr getötete Fahrradfahrer als 2007.In absoluten Zahlen ausgedrückt waren d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0.423 verunglückte und 456 getötete Fahrradfahr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 Jahre 2008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schreckend, nicht wahr?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52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mso schlimmer, dass 11.470 der Verunglückten Kinder war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559560" y="588960"/>
            <a:ext cx="33559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502-AC0F-43FC-A179-2EFB49EC464F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 rot="21489000">
            <a:off x="793800" y="1920600"/>
            <a:ext cx="8213760" cy="2965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 rot="21492000">
            <a:off x="801360" y="2455560"/>
            <a:ext cx="8136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Lehreinheit 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Physik</a:t>
            </a: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08D-3B90-403D-B73E-95F31670255E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960640" y="1224000"/>
            <a:ext cx="5326200" cy="5083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62080" y="2160720"/>
            <a:ext cx="26794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 bewegt sich am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zientest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h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ßgäng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bschraub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fer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hrradfahr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ub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031840" y="322200"/>
            <a:ext cx="6964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nergieverbrauch bei der Fortbewe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25F5-1B15-4351-8C73-E217F0A928BE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960640" y="1224000"/>
            <a:ext cx="5326200" cy="508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660840" y="1776240"/>
            <a:ext cx="3905280" cy="3106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62080" y="2160720"/>
            <a:ext cx="29779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 bewegt sich am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zientest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h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ßgäng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bschraub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fer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hrradfahr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ub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31840" y="322200"/>
            <a:ext cx="6964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nergieverbrauch bei der Fortbewe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D1D-A6E3-4B12-884B-50ACBBB604FF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960640" y="1224000"/>
            <a:ext cx="5326200" cy="508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660840" y="1776240"/>
            <a:ext cx="3905280" cy="310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3879720" y="1833480"/>
            <a:ext cx="4507200" cy="2994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62080" y="2160720"/>
            <a:ext cx="47289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 bewegt sich am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zientest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h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ßgäng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bschraub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fer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hrradfahr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ub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31840" y="322200"/>
            <a:ext cx="6964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nergieverbrauch bei der Fortbewe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liennummernplatzhalter 3"/>
          <p:cNvSpPr/>
          <p:nvPr/>
        </p:nvSpPr>
        <p:spPr>
          <a:xfrm>
            <a:off x="9640800" y="6465960"/>
            <a:ext cx="26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2A8-D5EB-4F13-98F9-B8632FC11621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357120" y="1660680"/>
            <a:ext cx="4730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 passiert bei geringen Geschwindigkeite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 Fahrrad droht zu kipp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722600" y="322200"/>
            <a:ext cx="79707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leichgewicht, Schwerkraft, Zentrifugalkraft, Fliehkraf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286160" y="1660680"/>
            <a:ext cx="4284720" cy="4424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57120" y="3000240"/>
            <a:ext cx="473076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e kann man das verhindern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m man mit dem Lenker eine nach aussen gerichtete Zentrifugalkraft erzeugt, die das Fahrrad wieder aufrichtet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62080" y="5000760"/>
            <a:ext cx="47289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sucht die umgekehrte Situation,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ohe Geschwindigkeit) zu beschreibe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04:13Z</dcterms:created>
  <dc:creator/>
  <dc:description/>
  <cp:keywords/>
  <dc:language>en-US</dc:language>
  <cp:lastModifiedBy>SW</cp:lastModifiedBy>
  <cp:lastPrinted>2010-05-11T11:47:37Z</cp:lastPrinted>
  <dcterms:modified xsi:type="dcterms:W3CDTF">2010-08-17T10:07:32Z</dcterms:modified>
  <cp:revision>14</cp:revision>
  <dc:subject/>
  <dc:title>Folie 1</dc:title>
</cp:coreProperties>
</file>